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13588" cy="9461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Protecting Materials and Merchand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Protecting Materials </a:t>
            </a:r>
            <a:br>
              <a:rPr sz="4800"/>
            </a:b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and Merchandise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lister Forming from a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upported Web Machi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2438280" y="2041560"/>
            <a:ext cx="518184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olded Expanded Polystyrene (EPS)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2960640" y="1828800"/>
            <a:ext cx="444204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PS Physical Properti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486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PS k-Facto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422440" y="1874880"/>
            <a:ext cx="5273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tatic Shield Symbo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836800" y="1828800"/>
            <a:ext cx="46306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nductive Foa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4645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advantages of cardboard packag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use of blister pack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operation of the forming machine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machine components and operations us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rmoform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operation of the supported web blister-forming machine and identify the machine components and operations used in thermoform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advantages of Expanded polystyrene packag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dge View of Pressed and Corrugated Cardboar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9" name="Picture 6159" descr=""/>
          <p:cNvPicPr/>
          <p:nvPr/>
        </p:nvPicPr>
        <p:blipFill>
          <a:blip r:embed="rId1"/>
          <a:stretch/>
        </p:blipFill>
        <p:spPr>
          <a:xfrm>
            <a:off x="2813040" y="2971800"/>
            <a:ext cx="45784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Unsupported Web Forming Machi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47768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eb Moving Through the Machi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673280" y="1763640"/>
            <a:ext cx="64800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eheating Ove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2216160" y="1600200"/>
            <a:ext cx="59292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rming the Blist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1"/>
          <a:stretch/>
        </p:blipFill>
        <p:spPr>
          <a:xfrm>
            <a:off x="2125800" y="1600200"/>
            <a:ext cx="59515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litter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59295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upported Web Forming Machi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362320" y="2120760"/>
            <a:ext cx="55911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7:02Z</dcterms:modified>
  <cp:revision>89</cp:revision>
  <dc:subject/>
  <dc:title>Introduction to the Certified Manufacturing Specialist Program</dc:title>
</cp:coreProperties>
</file>