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Introduction to Business Princip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0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1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59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2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5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8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1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79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2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3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Business Principles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urse Goal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oal of this course is to make you aware of the basic principles of operating a business. This awareness will help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understand the actions and motivations of your employ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mportance of having a sound business pl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mportance of producing a quality produ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mportance of customer satisfaction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stomer feedbac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importance of economics and ethics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iness deci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Building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632448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wo Years Late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828800" y="1758960"/>
            <a:ext cx="66294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umming Up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3360" indent="-3333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poses of a 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sentials of Starting and Managing a Busi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 and Employee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conomics and Et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 Based Incen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ice of the Custo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53:30Z</dcterms:modified>
  <cp:revision>43</cp:revision>
  <dc:subject/>
  <dc:title>Introduction to the Certified Manufacturing Specialist Program</dc:title>
</cp:coreProperties>
</file>