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Problem Solv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38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79" name="Object 36" descr=""/>
            <p:cNvPicPr/>
            <p:nvPr/>
          </p:nvPicPr>
          <p:blipFill>
            <a:blip r:embed="rId5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2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3" name="Object 3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6" name="Picture 46" descr="Quick Start Tech Col Sys of GA.jpg"/>
          <p:cNvPicPr/>
          <p:nvPr/>
        </p:nvPicPr>
        <p:blipFill>
          <a:blip r:embed="rId8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320004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Problem Solving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 Six: Evaluat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roblem is not Resolved, Return to Step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What Happe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rinciples of Excellenc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customer needs and expect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gnize shared responsibility for quality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uccess of the compan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vent err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hasize shared involvement to continuous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 the quality of ser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cy of proces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ight Problem Solving Tool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ainstorming to generate a list of id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Charting to illustrate a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ly Sheets to capture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to charts to show the number of items fitting into any one catego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Charts to graph data plotted over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 and Effect Diagrams to organize potential causes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ce Field Analyses to analyze the driving and restraining forces that surround a proposed chan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 Plans to identify what needs to be done, who is responsible for what and wh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Goals for Brainstorming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a wide variety and extensive number of id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everyone becomes invol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nothing is overloo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atmosphere of creativity and openn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ules for Brainstorming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ritici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4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opportun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4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hasize quant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4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ggy-backing encourag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low Chart Symbol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6919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ample Flow Char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5" name="Picture 16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54752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low Chart Symbol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720800" y="2209680"/>
            <a:ext cx="6919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ample Product Char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201760" y="1427040"/>
            <a:ext cx="595152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ustom Milling Tally Shee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2967120" y="1371600"/>
            <a:ext cx="44244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stify a structured approach to solving probl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a systematic six-step process for solving probl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s the circumstances of a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ze alternative solutions to a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how the solution will be implemented or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e the effectiveness of an implemented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ssess a decision and take corrective action as necessar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difficult situations more efficiently and effectiv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basic tools to aid in the problem-solving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ptical Framus Milling Tally Shee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1"/>
          <a:stretch/>
        </p:blipFill>
        <p:spPr>
          <a:xfrm>
            <a:off x="2798640" y="1600200"/>
            <a:ext cx="4765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ptical Framus Milling Pareto Char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5" name="Picture 11" descr=""/>
          <p:cNvPicPr/>
          <p:nvPr/>
        </p:nvPicPr>
        <p:blipFill>
          <a:blip r:embed="rId1"/>
          <a:stretch/>
        </p:blipFill>
        <p:spPr>
          <a:xfrm>
            <a:off x="1676520" y="1468440"/>
            <a:ext cx="68929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s to Preparing a Pareto Char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 the categories and the units of comparison such as frequenc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 or co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der the categories from largest to small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e the frequency or cost of each category relative to al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categori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 and label the left vertical axis with the unit of comparison. Scale this axis from 0 to the grand total of all categori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 and label the horizontal axis with the categories, largest to smallest, left to righ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 bars for each category. Each bar’s height should be the category sum as measured on the left vertical 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tle the Pareto Char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y the resul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Daily Rejects Run Char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1"/>
          <a:stretch/>
        </p:blipFill>
        <p:spPr>
          <a:xfrm>
            <a:off x="2038320" y="1386000"/>
            <a:ext cx="61149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s in Preparing a Run Char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the header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 the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scales for the char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ot the values on the chart and connec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lot points with a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 the char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ustom Milling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ause and Effect Diagram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73" name="Picture 12" descr=""/>
          <p:cNvPicPr/>
          <p:nvPr/>
        </p:nvPicPr>
        <p:blipFill>
          <a:blip r:embed="rId1"/>
          <a:stretch/>
        </p:blipFill>
        <p:spPr>
          <a:xfrm>
            <a:off x="1681200" y="1447920"/>
            <a:ext cx="69292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s in Preparing a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ause and Effect Diagram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e problem or eff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 the problem or effect statemen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nd label the main “bones” of the diagram skelet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ainstorm all possible cau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e most likely cau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s in Preparing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 Force Field Analysi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the desired change or a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 a force field chart (a large “T”) and write the current situation at the top of the chart (above the “T”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ainstorm the “driving forces” and list them on the left side of the char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ainstorm the “restraining forces” and list them on the right side of the char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uss the chart and determine which items could be altered to increase the chances for suc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an action plan to alter the for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ustom Milling Force Field Analysi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79" name="Picture 2055" descr=""/>
          <p:cNvPicPr/>
          <p:nvPr/>
        </p:nvPicPr>
        <p:blipFill>
          <a:blip r:embed="rId1"/>
          <a:stretch/>
        </p:blipFill>
        <p:spPr>
          <a:xfrm>
            <a:off x="2300400" y="1371600"/>
            <a:ext cx="57769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Definition of a Problem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roblem exists when a product does not meet specifica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when production does not meet demand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roblem Solving Mod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1041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9102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 One: Defi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Possible Problem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ect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n Area to Work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the 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ify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 Two: Investigat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 Down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the Root Ca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 Three: Produce Solution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Possible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rify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5960" indent="-3459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 Four: Select the Bes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Possible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Solution Implement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ep Five: Try I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 the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36:49Z</dcterms:modified>
  <cp:revision>131</cp:revision>
  <dc:subject/>
  <dc:title>Introduction to the Certified Manufacturing Specialist Program</dc:title>
</cp:coreProperties>
</file>