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Warehousing Data Appl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5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Warehousing Data Application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ar Code Fundamental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701800" y="2057400"/>
            <a:ext cx="49593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ummary of Inventory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Identification System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306520" y="1612800"/>
            <a:ext cx="5749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F Communication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ystem Component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998720" y="1609560"/>
            <a:ext cx="63072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esults of RF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mmunications System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increase in inventory accuracy to between 99.5%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100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or management will increase throughp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productiv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ments will be able to engage in interacti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exchan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less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lexible work for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dvantages of RF-Based Warehousing System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7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F systems provide information at the point-of-application sourc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F systems instantaneously input information into the host without batch delay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F systems have the capability to verify all incoming data transactions instantaneously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F systems enable use of powerful warehouse management systems that increase inventory accuracy, increase labor productivity via task management, and can eliminate physical inventories through cycle counting strategie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F systems complete entire transactions in less time than it takes to pull and initial bin card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How EDI Affects Busines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low of products or services from themselves to customers (and also from their suppliers to themselv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low of cash into and out of the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low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How the Warehouse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enefits From EDI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 docks for receipts of many trailers with ship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cipate personnel and equipment required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oad tru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ickly find incoming items that are critically needed for resale o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ackorders by the recip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resee warehouse space requirements and reserv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spa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lan putaways (R-F transmissions or printed pick lis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ticipate personnel and equipment required for putaw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Goals of MRP II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126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ke what we plan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2126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nufacture to the highest quality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2126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 product 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MRP II Manufacturing Proces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 engineer’s desig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e a BOM fi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ecast demand for the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a master production sche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the inventory reco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 raw mate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 the work center capacity and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edule 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ange wareho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375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edule transportation and distrib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four basic warehouse func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different types of Warehouse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types of Inventory Identification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advantages of radio frequency communic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fundamental units of a radio frequency communication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a typical RF Warehouse Transa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advantages of RF data input over manu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advantages of Electronic Data Interchan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796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how EDI helps the warehouse attain its go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796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MRP II communicatio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0796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how MRP II affects the manufacturing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arehouse Function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31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90000"/>
              </a:lnSpc>
              <a:spcBef>
                <a:spcPts val="31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ho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90000"/>
              </a:lnSpc>
              <a:spcBef>
                <a:spcPts val="31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cking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90000"/>
              </a:lnSpc>
              <a:spcBef>
                <a:spcPts val="31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ipp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mmon Errors in Manual Warehouse System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ual error at the card level when a worker accidentally writes down the wrong product ID or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 Cards are misfiled or lost at the consolidation poi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tch entry input errors occur once every 300 keystrok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ntic searches for lost or misplaced invent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ggling to meet orders due to old or bad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certain order stat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ure turnaround and response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C or Host-base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arehouse System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do not support critical activities like crossdocking, routing, or stag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teraction with the system at pick and putaway points deters cycle counting strateg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-based systems still require periodic physical inventor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cks and putaways can’t be verified immediate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pu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ailed audit trails do not ex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ory information has time lags of from 2 to 24 hou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160" indent="-33516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tch entry information input errors occur once ever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0 keystrok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IDC Tool Selec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act vs. Non-cont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ine-of-S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Dens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read r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F/ID Technology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583000" y="1708200"/>
            <a:ext cx="51894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ag Strip Technology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492280" y="1703520"/>
            <a:ext cx="52801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38:57Z</dcterms:modified>
  <cp:revision>94</cp:revision>
  <dc:subject/>
  <dc:title>Introduction to the Certified Manufacturing Specialist Program</dc:title>
</cp:coreProperties>
</file>