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9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113588" cy="9461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Math and Measur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2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6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8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2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Picture 16" descr="N:\Logos\1   Quick Start\QSLOGOPMS.tif"/>
          <p:cNvPicPr/>
          <p:nvPr/>
        </p:nvPicPr>
        <p:blipFill>
          <a:blip r:embed="rId6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1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2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60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3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6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9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2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6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80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3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4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32000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Math and Measurement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Examples of Percent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201760" y="1600200"/>
            <a:ext cx="59594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tandard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2211480" y="1666800"/>
            <a:ext cx="57895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Yardstick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7" name="Picture 2052" descr=""/>
          <p:cNvPicPr/>
          <p:nvPr/>
        </p:nvPicPr>
        <p:blipFill>
          <a:blip r:embed="rId1"/>
          <a:stretch/>
        </p:blipFill>
        <p:spPr>
          <a:xfrm>
            <a:off x="1469880" y="1981080"/>
            <a:ext cx="7270920" cy="7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Ruler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514520" y="2438280"/>
            <a:ext cx="7172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Earth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28893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Metric Place Valu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2505240" y="1828800"/>
            <a:ext cx="52005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Meter Stick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81200" y="2362320"/>
            <a:ext cx="699912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Examples of Liquid Standard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50702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Equivalents of Liquid Standard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3606840" y="1544760"/>
            <a:ext cx="309888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Examples of Liquid Metric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479760" y="2170080"/>
            <a:ext cx="32497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 mathematical computations using whole numbers, fractions, mixed numbers, decimals and percent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 conversions involving fractions, decima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percent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quire familiarity with measurements of liquid, solid and distance in English and metr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an ave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common ang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the perimeter and area of an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Equivalents of Liquid Metric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63" name="Picture 14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4081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ie Graph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65" name="Picture 1029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327024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Bar Graph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1628640" y="1681200"/>
            <a:ext cx="68295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Line Graph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69" name="Picture 1029" descr=""/>
          <p:cNvPicPr/>
          <p:nvPr/>
        </p:nvPicPr>
        <p:blipFill>
          <a:blip r:embed="rId1"/>
          <a:stretch/>
        </p:blipFill>
        <p:spPr>
          <a:xfrm>
            <a:off x="1805040" y="1981080"/>
            <a:ext cx="65991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mmon Shap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676520" y="2801880"/>
            <a:ext cx="6970680" cy="1160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752480" y="396252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44680"/>
                <a:tab algn="l" pos="1089000"/>
                <a:tab algn="l" pos="1633680"/>
                <a:tab algn="l" pos="2178000"/>
                <a:tab algn="l" pos="2722680"/>
                <a:tab algn="l" pos="3267000"/>
                <a:tab algn="l" pos="3811680"/>
                <a:tab algn="l" pos="4356000"/>
                <a:tab algn="l" pos="4900680"/>
                <a:tab algn="l" pos="5445000"/>
                <a:tab algn="l" pos="5989680"/>
                <a:tab algn="l" pos="6534000"/>
                <a:tab algn="l" pos="7078680"/>
                <a:tab algn="l" pos="7623000"/>
                <a:tab algn="l" pos="8167680"/>
                <a:tab algn="l" pos="8712360"/>
                <a:tab algn="l" pos="9256680"/>
                <a:tab algn="l" pos="9801360"/>
                <a:tab algn="l" pos="10345680"/>
                <a:tab algn="l" pos="10890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a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llel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riangl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2811600" y="1600200"/>
            <a:ext cx="45799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ircl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3392640" y="1847880"/>
            <a:ext cx="33890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lace Values Example 1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34830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lace Values Example 2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50515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Multiplication Tabl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2070000" y="1627200"/>
            <a:ext cx="60692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Examples of Fraction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758960" y="1600200"/>
            <a:ext cx="66913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ractions Shaded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1676520" y="1611360"/>
            <a:ext cx="7053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Examples of Decimal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2197080" y="1623960"/>
            <a:ext cx="58802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Reading Decimal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6472440" cy="33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50:27Z</dcterms:modified>
  <cp:revision>101</cp:revision>
  <dc:subject/>
  <dc:title>Introduction to the Certified Manufacturing Specialist Program</dc:title>
</cp:coreProperties>
</file>