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Introduction to Industrial Contr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2000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Introduction to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Industrial Control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sic Relay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2052720" y="1601640"/>
            <a:ext cx="62532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D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1849320" y="1981080"/>
            <a:ext cx="66088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R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839960" y="1981080"/>
            <a:ext cx="66182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NOT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Picture 11" descr=""/>
          <p:cNvPicPr/>
          <p:nvPr/>
        </p:nvPicPr>
        <p:blipFill>
          <a:blip r:embed="rId1"/>
          <a:stretch/>
        </p:blipFill>
        <p:spPr>
          <a:xfrm>
            <a:off x="1849320" y="1981080"/>
            <a:ext cx="66088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NOR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849320" y="1981080"/>
            <a:ext cx="66088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NAND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839960" y="1981080"/>
            <a:ext cx="661824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EMORY Logic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5" name="Picture 12" descr=""/>
          <p:cNvPicPr/>
          <p:nvPr/>
        </p:nvPicPr>
        <p:blipFill>
          <a:blip r:embed="rId1"/>
          <a:stretch/>
        </p:blipFill>
        <p:spPr>
          <a:xfrm>
            <a:off x="1849320" y="1981080"/>
            <a:ext cx="66088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arts of a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ogrammable Logic Controll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/>
          <a:stretch/>
        </p:blipFill>
        <p:spPr>
          <a:xfrm>
            <a:off x="1727280" y="1500120"/>
            <a:ext cx="68832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basic purpose and the three sections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trol circ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three common switches used to contro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strial compon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ree purposes of a rel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different types of logic us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circui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e purpose and function of a Programma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 Contro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sic Control Circui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2060" descr=""/>
          <p:cNvPicPr/>
          <p:nvPr/>
        </p:nvPicPr>
        <p:blipFill>
          <a:blip r:embed="rId1"/>
          <a:stretch/>
        </p:blipFill>
        <p:spPr>
          <a:xfrm>
            <a:off x="1836720" y="1828800"/>
            <a:ext cx="66279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pen Contac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1035" descr=""/>
          <p:cNvPicPr/>
          <p:nvPr/>
        </p:nvPicPr>
        <p:blipFill>
          <a:blip r:embed="rId1"/>
          <a:stretch/>
        </p:blipFill>
        <p:spPr>
          <a:xfrm>
            <a:off x="2035080" y="1981080"/>
            <a:ext cx="6270840" cy="25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sic Concept of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Industrial Control Circui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2056" descr=""/>
          <p:cNvPicPr/>
          <p:nvPr/>
        </p:nvPicPr>
        <p:blipFill>
          <a:blip r:embed="rId1"/>
          <a:stretch/>
        </p:blipFill>
        <p:spPr>
          <a:xfrm>
            <a:off x="1676520" y="1870200"/>
            <a:ext cx="69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ntact Block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133720" y="2674800"/>
            <a:ext cx="62532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nual Pushbutton Switc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1"/>
          <a:stretch/>
        </p:blipFill>
        <p:spPr>
          <a:xfrm>
            <a:off x="2674800" y="1676520"/>
            <a:ext cx="4953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lunger Type Limit Switc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1"/>
          <a:stretch/>
        </p:blipFill>
        <p:spPr>
          <a:xfrm>
            <a:off x="1687680" y="1981080"/>
            <a:ext cx="684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essure Switc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2009880" y="1905120"/>
            <a:ext cx="6289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39:36Z</dcterms:modified>
  <cp:revision>81</cp:revision>
  <dc:subject/>
  <dc:title>Introduction to the Certified Manufacturing Specialist Program</dc:title>
</cp:coreProperties>
</file>