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Warehousing Productivity Meas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Warehousing Productivity Measure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four questions we must ask ourselves wh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ablishing new metr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Benchmar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total number of orders, lines, or items picked over a give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average orders, lines or items picked over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“man-hour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number of man-hours in a give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Order Completion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average order Completion Time for a given peri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Overages, Shortages and Dam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Rate of Overages, Shortages or Dama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Mispi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Rate of Error/Mispi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the Rate of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the Concept of Inventory 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culate Inventory Tur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45396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Which Warehouse has better Inventory Tur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rders Picke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17" descr=""/>
          <p:cNvPicPr/>
          <p:nvPr/>
        </p:nvPicPr>
        <p:blipFill>
          <a:blip r:embed="rId1"/>
          <a:stretch/>
        </p:blipFill>
        <p:spPr>
          <a:xfrm>
            <a:off x="2514600" y="1800360"/>
            <a:ext cx="53006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Lines Picke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6156" descr=""/>
          <p:cNvPicPr/>
          <p:nvPr/>
        </p:nvPicPr>
        <p:blipFill>
          <a:blip r:embed="rId1"/>
          <a:stretch/>
        </p:blipFill>
        <p:spPr>
          <a:xfrm>
            <a:off x="2478240" y="1676520"/>
            <a:ext cx="53704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rder Completion Tim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2108160" y="1673280"/>
            <a:ext cx="619776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rder Completion Time Graph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7" name="Picture 11" descr=""/>
          <p:cNvPicPr/>
          <p:nvPr/>
        </p:nvPicPr>
        <p:blipFill>
          <a:blip r:embed="rId1"/>
          <a:stretch/>
        </p:blipFill>
        <p:spPr>
          <a:xfrm>
            <a:off x="2622600" y="1676520"/>
            <a:ext cx="514980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Lost Profits Due to OS&amp;D’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1936800" y="1676520"/>
            <a:ext cx="64450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8:37Z</dcterms:modified>
  <cp:revision>88</cp:revision>
  <dc:subject/>
  <dc:title>Introduction to the Certified Manufacturing Specialist Program</dc:title>
</cp:coreProperties>
</file>