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38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Managing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1026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0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1030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1031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32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33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34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035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036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" name="Picture 1040" descr="N:\Logos\1   Quick Start\QSLOGOPMS.tif"/>
          <p:cNvPicPr/>
          <p:nvPr/>
        </p:nvPicPr>
        <p:blipFill>
          <a:blip r:embed="rId6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1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2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60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3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6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9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2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80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3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4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Managing Change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n You Feel Alo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k support from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for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19224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eople Can Handle Only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o Much Chang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4680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n You Feel Overwhelme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time out to refoc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prior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realistic goa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from failu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19224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eople Have Different Levels of Readiness for Chang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40309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9224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n You Doubt Your Ability to Handle Change…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comparing yourself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patient with yoursel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patient with oth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hange…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have to be difficult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398520"/>
                <a:tab algn="l" pos="1025640"/>
                <a:tab algn="l" pos="4233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0" t="40195" r="40202" b="0"/>
          <a:stretch/>
        </p:blipFill>
        <p:spPr>
          <a:xfrm>
            <a:off x="1752480" y="2895480"/>
            <a:ext cx="3724560" cy="308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rcRect l="59803" t="0" r="0" b="48808"/>
          <a:stretch/>
        </p:blipFill>
        <p:spPr>
          <a:xfrm>
            <a:off x="5105520" y="1295280"/>
            <a:ext cx="2503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 Change Proces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1698480" y="1752480"/>
            <a:ext cx="696600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esistanc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Understand What Has Happened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the ev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how you fe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Feeling Word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447920" y="1625760"/>
          <a:ext cx="7337160" cy="4089240"/>
        </p:xfrm>
        <a:graphic>
          <a:graphicData uri="http://schemas.openxmlformats.org/drawingml/2006/table">
            <a:tbl>
              <a:tblPr/>
              <a:tblGrid>
                <a:gridCol w="988920"/>
                <a:gridCol w="1192320"/>
                <a:gridCol w="1412640"/>
                <a:gridCol w="1339920"/>
                <a:gridCol w="1052640"/>
                <a:gridCol w="1350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p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g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cst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icid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ien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ril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pon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ur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tr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hoc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y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re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rag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nic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lde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n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en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li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e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rustr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r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igh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grav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x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tis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p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it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ut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si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k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er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no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xed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causes of change in the workpla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change as on-go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how change affects 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y techniques for managing chang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 a positive out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cient Riddl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nimal has four legs at birth, two in the middle of its life and three at the end of its lif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179" descr=""/>
          <p:cNvPicPr/>
          <p:nvPr/>
        </p:nvPicPr>
        <p:blipFill>
          <a:blip r:embed="rId1"/>
          <a:stretch/>
        </p:blipFill>
        <p:spPr>
          <a:xfrm>
            <a:off x="2057400" y="2166840"/>
            <a:ext cx="60148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cient Riddle Answ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5028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he’s born, man crawls on all fours. In the middle of his life he walks on two legs and at the end of his life he usually walks with a cane (thus the three leg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56502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eople May Feel Awkwar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d Self-consciou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5850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n You Feel Awkwar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and Self-consciou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gnize that others may also feel awkwar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self-consciou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 discomfort as normal and temporar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tain as much information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19224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eople May First Think About What They Must Give Up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3483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19224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When You Focus on What You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Must Give Up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233280"/>
                <a:tab algn="l" pos="39852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gnize that change can have positive benefi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1624"/>
              </a:spcBef>
              <a:buClr>
                <a:srgbClr val="808080"/>
              </a:buClr>
              <a:buFont typeface="Tahoma"/>
              <a:buChar char="•"/>
              <a:tabLst>
                <a:tab algn="l" pos="233280"/>
                <a:tab algn="l" pos="39852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 on what you will gain as quickly as poss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People May Feel Alone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53751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5:31Z</dcterms:modified>
  <cp:revision>74</cp:revision>
  <dc:subject/>
  <dc:title>Introduction to the Certified Manufacturing Specialist Program</dc:title>
</cp:coreProperties>
</file>