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389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Positive Im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6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Positive Image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he elements of a positive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image builders and describe how they contribute to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ve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image busters and describe what should be don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why a positive image is important and how it can hel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 personal and career go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ways to present a positive image in the work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7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your personal image and identify specific steps towards enhancing your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 Positive Image…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urages others to respond positively to 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help open doors of opportun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s us feel good about ourselves and boo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r level of confide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Elements of a Positive Imag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5237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Learning Resource Char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624384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our Steps to a Positive Imag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s Your Current I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Kind of Image You Want to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Personal Image Builders and Image Bus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Steps to Achieve Image Go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41:34Z</dcterms:modified>
  <cp:revision>64</cp:revision>
  <dc:subject/>
  <dc:title>Introduction to the Certified Manufacturing Specialist Program</dc:title>
</cp:coreProperties>
</file>