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1.png" ContentType="image/png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240" y="1371240"/>
            <a:ext cx="7543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371240" y="3878640"/>
            <a:ext cx="7543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371240" y="13712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236920" y="13712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371240" y="38786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236920" y="38786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71240" y="137124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921840" y="137124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472800" y="137124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371240" y="387864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921840" y="387864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472800" y="387864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24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24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371240" y="137124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236920" y="137124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1371240" y="228600"/>
            <a:ext cx="7543800" cy="334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371240" y="13712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236920" y="137124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371240" y="38786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37124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71240" y="137124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236920" y="13712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236920" y="38786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371240" y="13712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236920" y="13712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1371240" y="3878640"/>
            <a:ext cx="7543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71240" y="1371240"/>
            <a:ext cx="7543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1371240" y="3878640"/>
            <a:ext cx="7543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71240" y="13712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236920" y="13712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371240" y="38786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5236920" y="38786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371240" y="137124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921840" y="137124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472800" y="137124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1371240" y="387864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921840" y="387864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472800" y="387864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24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371240" y="137124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236920" y="137124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371240" y="228600"/>
            <a:ext cx="7543800" cy="334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240" y="13712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36920" y="137124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240" y="38786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240" y="137124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36920" y="13712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236920" y="38786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240" y="13712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36920" y="13712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240" y="3878640"/>
            <a:ext cx="7543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image" Target="../media/image6.jpe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4"/>
          <p:cNvSpPr/>
          <p:nvPr/>
        </p:nvSpPr>
        <p:spPr>
          <a:xfrm>
            <a:off x="2514600" y="6458040"/>
            <a:ext cx="3733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Tahoma"/>
              </a:rPr>
              <a:t>Methods of Inventory Manageme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" name="Object 2"/>
          <p:cNvGraphicFramePr/>
          <p:nvPr/>
        </p:nvGraphicFramePr>
        <p:xfrm>
          <a:off x="0" y="0"/>
          <a:ext cx="1066680" cy="685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106668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7124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228600" indent="-228600">
              <a:lnSpc>
                <a:spcPct val="90000"/>
              </a:lnSpc>
              <a:spcBef>
                <a:spcPts val="1250"/>
              </a:spcBef>
              <a:buClr>
                <a:srgbClr val="80808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228600" indent="-228600">
              <a:lnSpc>
                <a:spcPct val="90000"/>
              </a:lnSpc>
              <a:spcBef>
                <a:spcPts val="1250"/>
              </a:spcBef>
              <a:buClr>
                <a:srgbClr val="808080"/>
              </a:buClr>
              <a:buFont typeface="Tahom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228600" indent="-228600">
              <a:lnSpc>
                <a:spcPct val="90000"/>
              </a:lnSpc>
              <a:spcBef>
                <a:spcPts val="12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28600" indent="-228600">
              <a:lnSpc>
                <a:spcPct val="90000"/>
              </a:lnSpc>
              <a:spcBef>
                <a:spcPts val="1250"/>
              </a:spcBef>
              <a:buClr>
                <a:srgbClr val="808080"/>
              </a:buClr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28600" indent="-22860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28600" indent="-22860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" name="Picture 6" descr="N:\Logos\1   Quick Start\QSLOGOPMS.tif"/>
          <p:cNvPicPr/>
          <p:nvPr/>
        </p:nvPicPr>
        <p:blipFill>
          <a:blip r:embed="rId4"/>
          <a:srcRect l="0" t="0" r="0" b="24629"/>
          <a:stretch/>
        </p:blipFill>
        <p:spPr>
          <a:xfrm>
            <a:off x="7620120" y="6454800"/>
            <a:ext cx="1274760" cy="218880"/>
          </a:xfrm>
          <a:prstGeom prst="rect">
            <a:avLst/>
          </a:prstGeom>
          <a:ln w="0">
            <a:noFill/>
          </a:ln>
        </p:spPr>
      </p:pic>
      <p:sp>
        <p:nvSpPr>
          <p:cNvPr id="6" name="Line 7"/>
          <p:cNvSpPr/>
          <p:nvPr/>
        </p:nvSpPr>
        <p:spPr>
          <a:xfrm>
            <a:off x="1371600" y="1143000"/>
            <a:ext cx="7543800" cy="0"/>
          </a:xfrm>
          <a:prstGeom prst="line">
            <a:avLst/>
          </a:prstGeom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Line 8"/>
          <p:cNvSpPr/>
          <p:nvPr/>
        </p:nvSpPr>
        <p:spPr>
          <a:xfrm flipV="1">
            <a:off x="1066680" y="0"/>
            <a:ext cx="0" cy="6858000"/>
          </a:xfrm>
          <a:prstGeom prst="line">
            <a:avLst/>
          </a:prstGeom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" name="Group 9"/>
          <p:cNvGrpSpPr/>
          <p:nvPr/>
        </p:nvGrpSpPr>
        <p:grpSpPr>
          <a:xfrm>
            <a:off x="1343160" y="6121440"/>
            <a:ext cx="961920" cy="571320"/>
            <a:chOff x="1343160" y="6121440"/>
            <a:chExt cx="961920" cy="571320"/>
          </a:xfrm>
        </p:grpSpPr>
        <p:pic>
          <p:nvPicPr>
            <p:cNvPr id="9" name="Object 10" descr=""/>
            <p:cNvPicPr/>
            <p:nvPr/>
          </p:nvPicPr>
          <p:blipFill>
            <a:blip r:embed="rId5"/>
            <a:stretch/>
          </p:blipFill>
          <p:spPr>
            <a:xfrm>
              <a:off x="1370160" y="6127560"/>
              <a:ext cx="717480" cy="56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Text Box 11"/>
            <p:cNvSpPr/>
            <p:nvPr/>
          </p:nvSpPr>
          <p:spPr>
            <a:xfrm>
              <a:off x="1629000" y="6121440"/>
              <a:ext cx="6760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 u="sng">
                  <a:solidFill>
                    <a:srgbClr val="000000"/>
                  </a:solidFill>
                  <a:uFillTx/>
                  <a:latin typeface="Arial Black"/>
                </a:rPr>
                <a:t>CWD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Text Box 12"/>
            <p:cNvSpPr/>
            <p:nvPr/>
          </p:nvSpPr>
          <p:spPr>
            <a:xfrm>
              <a:off x="1343160" y="6261120"/>
              <a:ext cx="930240" cy="24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 u="sng">
                  <a:solidFill>
                    <a:srgbClr val="000000"/>
                  </a:solidFill>
                  <a:uFillTx/>
                  <a:latin typeface="Arial"/>
                </a:rPr>
                <a:t>Certified Warehouse Distribution Specialist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2" name="Picture 16" descr="N:\Logos\1   Quick Start\QSLOGOPMS.tif"/>
          <p:cNvPicPr/>
          <p:nvPr/>
        </p:nvPicPr>
        <p:blipFill>
          <a:blip r:embed="rId6"/>
          <a:srcRect l="0" t="0" r="0" b="24629"/>
          <a:stretch/>
        </p:blipFill>
        <p:spPr>
          <a:xfrm>
            <a:off x="7620120" y="6454800"/>
            <a:ext cx="1274760" cy="218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Object 4" descr=""/>
          <p:cNvPicPr/>
          <p:nvPr/>
        </p:nvPicPr>
        <p:blipFill>
          <a:blip r:embed="rId2"/>
          <a:stretch/>
        </p:blipFill>
        <p:spPr>
          <a:xfrm>
            <a:off x="1143000" y="0"/>
            <a:ext cx="8001000" cy="5002200"/>
          </a:xfrm>
          <a:prstGeom prst="rect">
            <a:avLst/>
          </a:prstGeom>
          <a:ln w="0">
            <a:noFill/>
          </a:ln>
        </p:spPr>
      </p:pic>
      <p:grpSp>
        <p:nvGrpSpPr>
          <p:cNvPr id="50" name="Group 1026"/>
          <p:cNvGrpSpPr/>
          <p:nvPr/>
        </p:nvGrpSpPr>
        <p:grpSpPr>
          <a:xfrm>
            <a:off x="-119160" y="155520"/>
            <a:ext cx="9180360" cy="3780000"/>
            <a:chOff x="-119160" y="155520"/>
            <a:chExt cx="9180360" cy="3780000"/>
          </a:xfrm>
        </p:grpSpPr>
        <p:grpSp>
          <p:nvGrpSpPr>
            <p:cNvPr id="51" name="Group 1028"/>
            <p:cNvGrpSpPr/>
            <p:nvPr/>
          </p:nvGrpSpPr>
          <p:grpSpPr>
            <a:xfrm>
              <a:off x="1398600" y="155520"/>
              <a:ext cx="7662600" cy="766080"/>
              <a:chOff x="1398600" y="155520"/>
              <a:chExt cx="7662600" cy="766080"/>
            </a:xfrm>
          </p:grpSpPr>
          <p:sp>
            <p:nvSpPr>
              <p:cNvPr id="52" name="Text Box 1029"/>
              <p:cNvSpPr/>
              <p:nvPr/>
            </p:nvSpPr>
            <p:spPr>
              <a:xfrm>
                <a:off x="1398600" y="155520"/>
                <a:ext cx="6933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dddddd"/>
                    </a:solidFill>
                    <a:latin typeface="Euromode"/>
                  </a:rPr>
                  <a:t>00100</a:t>
                </a:r>
                <a:r>
                  <a:rPr b="0" lang="en-US" sz="2400" spc="-1" strike="noStrike">
                    <a:solidFill>
                      <a:srgbClr val="eaeaea"/>
                    </a:solidFill>
                    <a:latin typeface="Euromode"/>
                  </a:rPr>
                  <a:t>1001</a:t>
                </a:r>
                <a:r>
                  <a:rPr b="0" lang="en-US" sz="2400" spc="-1" strike="noStrike">
                    <a:solidFill>
                      <a:srgbClr val="f2f2f2"/>
                    </a:solidFill>
                    <a:latin typeface="Euromode"/>
                  </a:rPr>
                  <a:t>0010010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Euromode"/>
                  </a:rPr>
                  <a:t>0100100100100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Text Box 1030"/>
              <p:cNvSpPr/>
              <p:nvPr/>
            </p:nvSpPr>
            <p:spPr>
              <a:xfrm>
                <a:off x="1746000" y="461880"/>
                <a:ext cx="7315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dddddd"/>
                    </a:solidFill>
                    <a:latin typeface="Euromode"/>
                  </a:rPr>
                  <a:t>00100100</a:t>
                </a:r>
                <a:r>
                  <a:rPr b="0" lang="en-US" sz="2400" spc="-1" strike="noStrike">
                    <a:solidFill>
                      <a:srgbClr val="f2f2f2"/>
                    </a:solidFill>
                    <a:latin typeface="Euromode"/>
                  </a:rPr>
                  <a:t>1001001</a:t>
                </a:r>
                <a:r>
                  <a:rPr b="0" lang="en-US" sz="2400" spc="-1" strike="noStrike">
                    <a:solidFill>
                      <a:srgbClr val="f7f7f7"/>
                    </a:solidFill>
                    <a:latin typeface="Euromode"/>
                  </a:rPr>
                  <a:t>00100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Euromode"/>
                  </a:rPr>
                  <a:t>100100100100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" name="Oval 1031"/>
            <p:cNvSpPr/>
            <p:nvPr/>
          </p:nvSpPr>
          <p:spPr>
            <a:xfrm>
              <a:off x="917640" y="487440"/>
              <a:ext cx="838080" cy="83808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Oval 1032"/>
            <p:cNvSpPr/>
            <p:nvPr/>
          </p:nvSpPr>
          <p:spPr>
            <a:xfrm>
              <a:off x="2117880" y="487440"/>
              <a:ext cx="838080" cy="83808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Oval 1033"/>
            <p:cNvSpPr/>
            <p:nvPr/>
          </p:nvSpPr>
          <p:spPr>
            <a:xfrm>
              <a:off x="3317760" y="487440"/>
              <a:ext cx="838440" cy="838080"/>
            </a:xfrm>
            <a:prstGeom prst="ellipse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Oval 1034"/>
            <p:cNvSpPr/>
            <p:nvPr/>
          </p:nvSpPr>
          <p:spPr>
            <a:xfrm>
              <a:off x="4518000" y="487440"/>
              <a:ext cx="838080" cy="838080"/>
            </a:xfrm>
            <a:prstGeom prst="ellipse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Oval 1035"/>
            <p:cNvSpPr/>
            <p:nvPr/>
          </p:nvSpPr>
          <p:spPr>
            <a:xfrm>
              <a:off x="5718240" y="487440"/>
              <a:ext cx="838080" cy="838080"/>
            </a:xfrm>
            <a:prstGeom prst="ellipse">
              <a:avLst/>
            </a:prstGeom>
            <a:solidFill>
              <a:srgbClr val="f7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" name="Group 1036"/>
            <p:cNvGrpSpPr/>
            <p:nvPr/>
          </p:nvGrpSpPr>
          <p:grpSpPr>
            <a:xfrm>
              <a:off x="947880" y="961920"/>
              <a:ext cx="7662600" cy="766080"/>
              <a:chOff x="947880" y="961920"/>
              <a:chExt cx="7662600" cy="766080"/>
            </a:xfrm>
          </p:grpSpPr>
          <p:sp>
            <p:nvSpPr>
              <p:cNvPr id="60" name="Text Box 1037"/>
              <p:cNvSpPr/>
              <p:nvPr/>
            </p:nvSpPr>
            <p:spPr>
              <a:xfrm>
                <a:off x="947880" y="961920"/>
                <a:ext cx="6933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dddddd"/>
                    </a:solidFill>
                    <a:latin typeface="Euromode"/>
                  </a:rPr>
                  <a:t>00100100100</a:t>
                </a:r>
                <a:r>
                  <a:rPr b="0" lang="en-US" sz="2400" spc="-1" strike="noStrike">
                    <a:solidFill>
                      <a:srgbClr val="f2f2f2"/>
                    </a:solidFill>
                    <a:latin typeface="Euromode"/>
                  </a:rPr>
                  <a:t>10010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Euromode"/>
                  </a:rPr>
                  <a:t>0100100100100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Text Box 1038"/>
              <p:cNvSpPr/>
              <p:nvPr/>
            </p:nvSpPr>
            <p:spPr>
              <a:xfrm>
                <a:off x="1295280" y="1268280"/>
                <a:ext cx="7315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dddddd"/>
                    </a:solidFill>
                    <a:latin typeface="Euromode"/>
                  </a:rPr>
                  <a:t>00100100</a:t>
                </a:r>
                <a:r>
                  <a:rPr b="0" lang="en-US" sz="2400" spc="-1" strike="noStrike">
                    <a:solidFill>
                      <a:srgbClr val="f2f2f2"/>
                    </a:solidFill>
                    <a:latin typeface="Euromode"/>
                  </a:rPr>
                  <a:t>1001001</a:t>
                </a:r>
                <a:r>
                  <a:rPr b="0" lang="en-US" sz="2400" spc="-1" strike="noStrike">
                    <a:solidFill>
                      <a:srgbClr val="f7f7f7"/>
                    </a:solidFill>
                    <a:latin typeface="Euromode"/>
                  </a:rPr>
                  <a:t>00100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Euromode"/>
                  </a:rPr>
                  <a:t>100100100100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" name="Group 1039"/>
            <p:cNvGrpSpPr/>
            <p:nvPr/>
          </p:nvGrpSpPr>
          <p:grpSpPr>
            <a:xfrm>
              <a:off x="915840" y="1571760"/>
              <a:ext cx="7662600" cy="766080"/>
              <a:chOff x="915840" y="1571760"/>
              <a:chExt cx="7662600" cy="766080"/>
            </a:xfrm>
          </p:grpSpPr>
          <p:sp>
            <p:nvSpPr>
              <p:cNvPr id="63" name="Text Box 1040"/>
              <p:cNvSpPr/>
              <p:nvPr/>
            </p:nvSpPr>
            <p:spPr>
              <a:xfrm>
                <a:off x="915840" y="1571760"/>
                <a:ext cx="6933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dddddd"/>
                    </a:solidFill>
                    <a:latin typeface="Euromode"/>
                  </a:rPr>
                  <a:t>00100</a:t>
                </a:r>
                <a:r>
                  <a:rPr b="0" lang="en-US" sz="2400" spc="-1" strike="noStrike">
                    <a:solidFill>
                      <a:srgbClr val="eaeaea"/>
                    </a:solidFill>
                    <a:latin typeface="Euromode"/>
                  </a:rPr>
                  <a:t>100</a:t>
                </a:r>
                <a:r>
                  <a:rPr b="0" lang="en-US" sz="2400" spc="-1" strike="noStrike">
                    <a:solidFill>
                      <a:srgbClr val="f2f2f2"/>
                    </a:solidFill>
                    <a:latin typeface="Euromode"/>
                  </a:rPr>
                  <a:t>10010010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Euromode"/>
                  </a:rPr>
                  <a:t>0100100100100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Text Box 1041"/>
              <p:cNvSpPr/>
              <p:nvPr/>
            </p:nvSpPr>
            <p:spPr>
              <a:xfrm>
                <a:off x="1263240" y="1878120"/>
                <a:ext cx="7315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dddddd"/>
                    </a:solidFill>
                    <a:latin typeface="Euromode"/>
                  </a:rPr>
                  <a:t>001001</a:t>
                </a:r>
                <a:r>
                  <a:rPr b="0" lang="en-US" sz="2400" spc="-1" strike="noStrike">
                    <a:solidFill>
                      <a:srgbClr val="f2f2f2"/>
                    </a:solidFill>
                    <a:latin typeface="Euromode"/>
                  </a:rPr>
                  <a:t>001001001</a:t>
                </a:r>
                <a:r>
                  <a:rPr b="0" lang="en-US" sz="2400" spc="-1" strike="noStrike">
                    <a:solidFill>
                      <a:srgbClr val="f7f7f7"/>
                    </a:solidFill>
                    <a:latin typeface="Euromode"/>
                  </a:rPr>
                  <a:t>00100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Euromode"/>
                  </a:rPr>
                  <a:t>100100100100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" name="Group 1042"/>
            <p:cNvGrpSpPr/>
            <p:nvPr/>
          </p:nvGrpSpPr>
          <p:grpSpPr>
            <a:xfrm>
              <a:off x="76320" y="2257560"/>
              <a:ext cx="7662600" cy="766080"/>
              <a:chOff x="76320" y="2257560"/>
              <a:chExt cx="7662600" cy="766080"/>
            </a:xfrm>
          </p:grpSpPr>
          <p:sp>
            <p:nvSpPr>
              <p:cNvPr id="66" name="Text Box 1043"/>
              <p:cNvSpPr/>
              <p:nvPr/>
            </p:nvSpPr>
            <p:spPr>
              <a:xfrm>
                <a:off x="76320" y="2257560"/>
                <a:ext cx="6933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dddddd"/>
                    </a:solidFill>
                    <a:latin typeface="Euromode"/>
                  </a:rPr>
                  <a:t>00100</a:t>
                </a:r>
                <a:r>
                  <a:rPr b="0" lang="en-US" sz="2400" spc="-1" strike="noStrike">
                    <a:solidFill>
                      <a:srgbClr val="eaeaea"/>
                    </a:solidFill>
                    <a:latin typeface="Euromode"/>
                  </a:rPr>
                  <a:t>100</a:t>
                </a:r>
                <a:r>
                  <a:rPr b="0" lang="en-US" sz="2400" spc="-1" strike="noStrike">
                    <a:solidFill>
                      <a:srgbClr val="f2f2f2"/>
                    </a:solidFill>
                    <a:latin typeface="Euromode"/>
                  </a:rPr>
                  <a:t>10010010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Euromode"/>
                  </a:rPr>
                  <a:t>0100100100100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Text Box 1044"/>
              <p:cNvSpPr/>
              <p:nvPr/>
            </p:nvSpPr>
            <p:spPr>
              <a:xfrm>
                <a:off x="423720" y="2563920"/>
                <a:ext cx="7315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dddddd"/>
                    </a:solidFill>
                    <a:latin typeface="Euromode"/>
                  </a:rPr>
                  <a:t>001001</a:t>
                </a:r>
                <a:r>
                  <a:rPr b="0" lang="en-US" sz="2400" spc="-1" strike="noStrike">
                    <a:solidFill>
                      <a:srgbClr val="f2f2f2"/>
                    </a:solidFill>
                    <a:latin typeface="Euromode"/>
                  </a:rPr>
                  <a:t>001001001</a:t>
                </a:r>
                <a:r>
                  <a:rPr b="0" lang="en-US" sz="2400" spc="-1" strike="noStrike">
                    <a:solidFill>
                      <a:srgbClr val="f7f7f7"/>
                    </a:solidFill>
                    <a:latin typeface="Euromode"/>
                  </a:rPr>
                  <a:t>00100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Euromode"/>
                  </a:rPr>
                  <a:t>100100100100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" name="Group 1045"/>
            <p:cNvGrpSpPr/>
            <p:nvPr/>
          </p:nvGrpSpPr>
          <p:grpSpPr>
            <a:xfrm>
              <a:off x="-119160" y="2868480"/>
              <a:ext cx="7662600" cy="766080"/>
              <a:chOff x="-119160" y="2868480"/>
              <a:chExt cx="7662600" cy="766080"/>
            </a:xfrm>
          </p:grpSpPr>
          <p:sp>
            <p:nvSpPr>
              <p:cNvPr id="69" name="Text Box 1046"/>
              <p:cNvSpPr/>
              <p:nvPr/>
            </p:nvSpPr>
            <p:spPr>
              <a:xfrm>
                <a:off x="-119160" y="2868480"/>
                <a:ext cx="6933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dddddd"/>
                    </a:solidFill>
                    <a:latin typeface="Euromode"/>
                  </a:rPr>
                  <a:t>100</a:t>
                </a:r>
                <a:r>
                  <a:rPr b="0" lang="en-US" sz="2400" spc="-1" strike="noStrike">
                    <a:solidFill>
                      <a:srgbClr val="eaeaea"/>
                    </a:solidFill>
                    <a:latin typeface="Euromode"/>
                  </a:rPr>
                  <a:t>100</a:t>
                </a:r>
                <a:r>
                  <a:rPr b="0" lang="en-US" sz="2400" spc="-1" strike="noStrike">
                    <a:solidFill>
                      <a:srgbClr val="f2f2f2"/>
                    </a:solidFill>
                    <a:latin typeface="Euromode"/>
                  </a:rPr>
                  <a:t>10010010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Euromode"/>
                  </a:rPr>
                  <a:t>0100100100100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Text Box 1047"/>
              <p:cNvSpPr/>
              <p:nvPr/>
            </p:nvSpPr>
            <p:spPr>
              <a:xfrm>
                <a:off x="228240" y="3174840"/>
                <a:ext cx="7315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dddddd"/>
                    </a:solidFill>
                    <a:latin typeface="Euromode"/>
                  </a:rPr>
                  <a:t>001001</a:t>
                </a:r>
                <a:r>
                  <a:rPr b="0" lang="en-US" sz="2400" spc="-1" strike="noStrike">
                    <a:solidFill>
                      <a:srgbClr val="f2f2f2"/>
                    </a:solidFill>
                    <a:latin typeface="Euromode"/>
                  </a:rPr>
                  <a:t>001001001</a:t>
                </a:r>
                <a:r>
                  <a:rPr b="0" lang="en-US" sz="2400" spc="-1" strike="noStrike">
                    <a:solidFill>
                      <a:srgbClr val="f7f7f7"/>
                    </a:solidFill>
                    <a:latin typeface="Euromode"/>
                  </a:rPr>
                  <a:t>00100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Euromode"/>
                  </a:rPr>
                  <a:t>100100100100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" name="Group 1048"/>
            <p:cNvGrpSpPr/>
            <p:nvPr/>
          </p:nvGrpSpPr>
          <p:grpSpPr>
            <a:xfrm>
              <a:off x="533520" y="3021120"/>
              <a:ext cx="6290640" cy="914400"/>
              <a:chOff x="533520" y="3021120"/>
              <a:chExt cx="6290640" cy="914400"/>
            </a:xfrm>
          </p:grpSpPr>
          <p:sp>
            <p:nvSpPr>
              <p:cNvPr id="72" name="Text Box 1049"/>
              <p:cNvSpPr/>
              <p:nvPr/>
            </p:nvSpPr>
            <p:spPr>
              <a:xfrm>
                <a:off x="533520" y="3021120"/>
                <a:ext cx="569268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Text Box 1050"/>
              <p:cNvSpPr/>
              <p:nvPr/>
            </p:nvSpPr>
            <p:spPr>
              <a:xfrm>
                <a:off x="820080" y="3475800"/>
                <a:ext cx="6004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Euromode"/>
                  </a:rPr>
                  <a:t>01     0100100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4" name="Line 1051"/>
          <p:cNvSpPr/>
          <p:nvPr/>
        </p:nvSpPr>
        <p:spPr>
          <a:xfrm flipV="1">
            <a:off x="1295280" y="0"/>
            <a:ext cx="0" cy="6858000"/>
          </a:xfrm>
          <a:prstGeom prst="line">
            <a:avLst/>
          </a:prstGeom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" name="Object 5"/>
          <p:cNvGraphicFramePr/>
          <p:nvPr/>
        </p:nvGraphicFramePr>
        <p:xfrm>
          <a:off x="0" y="0"/>
          <a:ext cx="1295280" cy="685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6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129528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" name="Text Box 30"/>
          <p:cNvSpPr/>
          <p:nvPr/>
        </p:nvSpPr>
        <p:spPr>
          <a:xfrm>
            <a:off x="4267080" y="6553080"/>
            <a:ext cx="1981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Copyright © 2000, 2002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46" descr="Quick Start Tech Col Sys of GA.jpg"/>
          <p:cNvPicPr/>
          <p:nvPr/>
        </p:nvPicPr>
        <p:blipFill>
          <a:blip r:embed="rId5"/>
          <a:stretch/>
        </p:blipFill>
        <p:spPr>
          <a:xfrm>
            <a:off x="1752480" y="6324480"/>
            <a:ext cx="1760760" cy="387360"/>
          </a:xfrm>
          <a:prstGeom prst="rect">
            <a:avLst/>
          </a:prstGeom>
          <a:ln w="0">
            <a:noFill/>
          </a:ln>
        </p:spPr>
      </p:pic>
      <p:grpSp>
        <p:nvGrpSpPr>
          <p:cNvPr id="79" name="Group 36"/>
          <p:cNvGrpSpPr/>
          <p:nvPr/>
        </p:nvGrpSpPr>
        <p:grpSpPr>
          <a:xfrm>
            <a:off x="7524720" y="5676840"/>
            <a:ext cx="1467000" cy="1028880"/>
            <a:chOff x="7524720" y="5676840"/>
            <a:chExt cx="1467000" cy="1028880"/>
          </a:xfrm>
        </p:grpSpPr>
        <p:pic>
          <p:nvPicPr>
            <p:cNvPr id="80" name="Object 36" descr=""/>
            <p:cNvPicPr/>
            <p:nvPr/>
          </p:nvPicPr>
          <p:blipFill>
            <a:blip r:embed="rId6"/>
            <a:stretch/>
          </p:blipFill>
          <p:spPr>
            <a:xfrm>
              <a:off x="7572240" y="5689440"/>
              <a:ext cx="1295640" cy="1016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" name="Picture 6" descr=""/>
            <p:cNvPicPr/>
            <p:nvPr/>
          </p:nvPicPr>
          <p:blipFill>
            <a:blip r:embed="rId7"/>
            <a:stretch/>
          </p:blipFill>
          <p:spPr>
            <a:xfrm>
              <a:off x="7572240" y="5689440"/>
              <a:ext cx="1295640" cy="1016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Group 34"/>
            <p:cNvGrpSpPr/>
            <p:nvPr/>
          </p:nvGrpSpPr>
          <p:grpSpPr>
            <a:xfrm>
              <a:off x="7524720" y="5676840"/>
              <a:ext cx="1467000" cy="1028880"/>
              <a:chOff x="7524720" y="5676840"/>
              <a:chExt cx="1467000" cy="1028880"/>
            </a:xfrm>
          </p:grpSpPr>
          <p:grpSp>
            <p:nvGrpSpPr>
              <p:cNvPr id="83" name="Group 35"/>
              <p:cNvGrpSpPr/>
              <p:nvPr/>
            </p:nvGrpSpPr>
            <p:grpSpPr>
              <a:xfrm>
                <a:off x="7524720" y="5689440"/>
                <a:ext cx="1390680" cy="1016280"/>
                <a:chOff x="7524720" y="5689440"/>
                <a:chExt cx="1390680" cy="1016280"/>
              </a:xfrm>
            </p:grpSpPr>
            <p:pic>
              <p:nvPicPr>
                <p:cNvPr id="84" name="Object 36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7572240" y="5689440"/>
                  <a:ext cx="1295640" cy="1016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" name="Text Box 37"/>
                <p:cNvSpPr/>
                <p:nvPr/>
              </p:nvSpPr>
              <p:spPr>
                <a:xfrm>
                  <a:off x="7524720" y="6099120"/>
                  <a:ext cx="139068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31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500" spc="-1" strike="noStrike" u="sng">
                      <a:solidFill>
                        <a:srgbClr val="000000"/>
                      </a:solidFill>
                      <a:uFillTx/>
                      <a:latin typeface="Arial"/>
                    </a:rPr>
                    <a:t>Certified Warehouse Distribution Specialist</a:t>
                  </a:r>
                  <a:endParaRPr b="0" lang="en-US" sz="5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6" name="Text Box 38"/>
              <p:cNvSpPr/>
              <p:nvPr/>
            </p:nvSpPr>
            <p:spPr>
              <a:xfrm>
                <a:off x="8039160" y="5676840"/>
                <a:ext cx="952560" cy="35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6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 u="sng">
                    <a:solidFill>
                      <a:srgbClr val="000000"/>
                    </a:solidFill>
                    <a:uFillTx/>
                    <a:latin typeface="Arial Black"/>
                  </a:rPr>
                  <a:t>CWDS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37124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228600" indent="-228600">
              <a:lnSpc>
                <a:spcPct val="90000"/>
              </a:lnSpc>
              <a:spcBef>
                <a:spcPts val="1250"/>
              </a:spcBef>
              <a:buClr>
                <a:srgbClr val="80808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228600" indent="-228600">
              <a:lnSpc>
                <a:spcPct val="90000"/>
              </a:lnSpc>
              <a:spcBef>
                <a:spcPts val="1250"/>
              </a:spcBef>
              <a:buClr>
                <a:srgbClr val="808080"/>
              </a:buClr>
              <a:buFont typeface="Tahom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228600" indent="-228600">
              <a:lnSpc>
                <a:spcPct val="90000"/>
              </a:lnSpc>
              <a:spcBef>
                <a:spcPts val="12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28600" indent="-228600">
              <a:lnSpc>
                <a:spcPct val="90000"/>
              </a:lnSpc>
              <a:spcBef>
                <a:spcPts val="1250"/>
              </a:spcBef>
              <a:buClr>
                <a:srgbClr val="808080"/>
              </a:buClr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28600" indent="-22860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28600" indent="-22860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752120" y="3200040"/>
            <a:ext cx="66294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92160" tIns="0" bIns="46080" anchor="t">
            <a:noAutofit/>
          </a:bodyPr>
          <a:p>
            <a:pPr indent="0">
              <a:spcBef>
                <a:spcPts val="39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66"/>
                </a:solidFill>
                <a:latin typeface="Tahoma"/>
              </a:rPr>
              <a:t>Methods of Inventory Management</a:t>
            </a:r>
            <a:endParaRPr b="0" lang="en-US" sz="48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29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ahoma"/>
              </a:rPr>
              <a:t>Implementing Just-in-Time</a:t>
            </a: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37124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461880" indent="0">
              <a:spcBef>
                <a:spcPts val="1624"/>
              </a:spcBef>
              <a:buNone/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termine the types of inventor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461880" indent="0">
              <a:spcBef>
                <a:spcPts val="1624"/>
              </a:spcBef>
              <a:buNone/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termine how many different items there are in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ch segmen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461880" indent="0">
              <a:spcBef>
                <a:spcPts val="1624"/>
              </a:spcBef>
              <a:buNone/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termine the unit cost of each it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461880" indent="0">
              <a:spcBef>
                <a:spcPts val="1624"/>
              </a:spcBef>
              <a:buNone/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termine the anticipated annual deman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461880" indent="0">
              <a:spcBef>
                <a:spcPts val="1624"/>
              </a:spcBef>
              <a:buNone/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5.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un an ABC Analysis for each inventory segmen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461880" indent="0">
              <a:spcBef>
                <a:spcPts val="1624"/>
              </a:spcBef>
              <a:buNone/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.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assify the item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29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ahoma"/>
              </a:rPr>
              <a:t>“</a:t>
            </a:r>
            <a:r>
              <a:rPr b="0" lang="en-US" sz="3600" spc="-1" strike="noStrike">
                <a:solidFill>
                  <a:srgbClr val="003366"/>
                </a:solidFill>
                <a:latin typeface="Tahoma"/>
              </a:rPr>
              <a:t>ABC” Analysis</a:t>
            </a: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pic>
        <p:nvPicPr>
          <p:cNvPr id="145" name="Picture 1028" descr=""/>
          <p:cNvPicPr/>
          <p:nvPr/>
        </p:nvPicPr>
        <p:blipFill>
          <a:blip r:embed="rId1"/>
          <a:stretch/>
        </p:blipFill>
        <p:spPr>
          <a:xfrm>
            <a:off x="2362320" y="1905120"/>
            <a:ext cx="5333760" cy="35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29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ahoma"/>
              </a:rPr>
              <a:t>Fixed Quantity System</a:t>
            </a: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pic>
        <p:nvPicPr>
          <p:cNvPr id="147" name="Picture 2052" descr=""/>
          <p:cNvPicPr/>
          <p:nvPr/>
        </p:nvPicPr>
        <p:blipFill>
          <a:blip r:embed="rId1"/>
          <a:stretch/>
        </p:blipFill>
        <p:spPr>
          <a:xfrm>
            <a:off x="2590920" y="1611360"/>
            <a:ext cx="4419360" cy="42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29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ahoma"/>
              </a:rPr>
              <a:t>Fixed Time System</a:t>
            </a: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pic>
        <p:nvPicPr>
          <p:cNvPr id="149" name="Picture 4" descr=""/>
          <p:cNvPicPr/>
          <p:nvPr/>
        </p:nvPicPr>
        <p:blipFill>
          <a:blip r:embed="rId1"/>
          <a:stretch/>
        </p:blipFill>
        <p:spPr>
          <a:xfrm>
            <a:off x="2438280" y="1600200"/>
            <a:ext cx="5108760" cy="441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29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ahoma"/>
              </a:rPr>
              <a:t>Advantages of Kanban</a:t>
            </a: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37124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461880" indent="-455400">
              <a:spcBef>
                <a:spcPts val="1624"/>
              </a:spcBef>
              <a:buClr>
                <a:srgbClr val="80808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t is a simple and understandable proces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461880" indent="-455400">
              <a:spcBef>
                <a:spcPts val="1624"/>
              </a:spcBef>
              <a:buClr>
                <a:srgbClr val="80808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t provides a quick response to chang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461880" indent="-455400">
              <a:spcBef>
                <a:spcPts val="1624"/>
              </a:spcBef>
              <a:buClr>
                <a:srgbClr val="80808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t avoids over producti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461880" indent="-455400">
              <a:spcBef>
                <a:spcPts val="1624"/>
              </a:spcBef>
              <a:buClr>
                <a:srgbClr val="80808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t minimizes was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461880" indent="-455400">
              <a:spcBef>
                <a:spcPts val="1624"/>
              </a:spcBef>
              <a:buClr>
                <a:srgbClr val="80808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t is low-cost and easy to maintai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461880" indent="-455400">
              <a:spcBef>
                <a:spcPts val="1624"/>
              </a:spcBef>
              <a:buClr>
                <a:srgbClr val="80808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t delegates responsibility to the line worke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ahoma"/>
              </a:rPr>
              <a:t>Key Factors Addressed by Kanban</a:t>
            </a: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371600" y="1371240"/>
            <a:ext cx="36957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0"/>
                <a:tab algn="l" pos="349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dustrial Re-engineer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9200" indent="-349200">
              <a:lnSpc>
                <a:spcPct val="100000"/>
              </a:lnSpc>
              <a:spcBef>
                <a:spcPts val="1624"/>
              </a:spcBef>
              <a:buClr>
                <a:srgbClr val="808080"/>
              </a:buClr>
              <a:buFont typeface="Tahoma"/>
              <a:buChar char="•"/>
              <a:tabLst>
                <a:tab algn="l" pos="349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dular/cell produ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9200" indent="-349200">
              <a:lnSpc>
                <a:spcPct val="100000"/>
              </a:lnSpc>
              <a:spcBef>
                <a:spcPts val="1624"/>
              </a:spcBef>
              <a:buClr>
                <a:srgbClr val="808080"/>
              </a:buClr>
              <a:buFont typeface="Tahoma"/>
              <a:buChar char="•"/>
              <a:tabLst>
                <a:tab algn="l" pos="349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yout of processes and machines that are oriented around the produc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9200" indent="-349200">
              <a:lnSpc>
                <a:spcPct val="100000"/>
              </a:lnSpc>
              <a:spcBef>
                <a:spcPts val="1624"/>
              </a:spcBef>
              <a:buClr>
                <a:srgbClr val="808080"/>
              </a:buClr>
              <a:buFont typeface="Tahoma"/>
              <a:buChar char="•"/>
              <a:tabLst>
                <a:tab algn="l" pos="349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-shaped production l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9200" indent="-349200">
              <a:lnSpc>
                <a:spcPct val="100000"/>
              </a:lnSpc>
              <a:spcBef>
                <a:spcPts val="1624"/>
              </a:spcBef>
              <a:buClr>
                <a:srgbClr val="808080"/>
              </a:buClr>
              <a:buFont typeface="Tahoma"/>
              <a:buChar char="•"/>
              <a:tabLst>
                <a:tab algn="l" pos="349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tal preventative mainten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9200" indent="-349200">
              <a:lnSpc>
                <a:spcPct val="100000"/>
              </a:lnSpc>
              <a:spcBef>
                <a:spcPts val="1624"/>
              </a:spcBef>
              <a:buClr>
                <a:srgbClr val="808080"/>
              </a:buClr>
              <a:buFont typeface="Tahoma"/>
              <a:buChar char="•"/>
              <a:tabLst>
                <a:tab algn="l" pos="349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ss production of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xed mode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105160" y="1371240"/>
            <a:ext cx="39243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0"/>
                <a:tab algn="l" pos="349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uman Factors of Produc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9200" indent="-349200">
              <a:lnSpc>
                <a:spcPct val="100000"/>
              </a:lnSpc>
              <a:spcBef>
                <a:spcPts val="1624"/>
              </a:spcBef>
              <a:buClr>
                <a:srgbClr val="808080"/>
              </a:buClr>
              <a:buFont typeface="Tahoma"/>
              <a:buChar char="•"/>
              <a:tabLst>
                <a:tab algn="l" pos="349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eaking down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ministrative barri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9200" indent="-349200">
              <a:lnSpc>
                <a:spcPct val="100000"/>
              </a:lnSpc>
              <a:spcBef>
                <a:spcPts val="1624"/>
              </a:spcBef>
              <a:buClr>
                <a:srgbClr val="808080"/>
              </a:buClr>
              <a:buFont typeface="Tahoma"/>
              <a:buChar char="•"/>
              <a:tabLst>
                <a:tab algn="l" pos="349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am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9200" indent="-349200">
              <a:lnSpc>
                <a:spcPct val="100000"/>
              </a:lnSpc>
              <a:spcBef>
                <a:spcPts val="1624"/>
              </a:spcBef>
              <a:buClr>
                <a:srgbClr val="808080"/>
              </a:buClr>
              <a:buFont typeface="Tahoma"/>
              <a:buChar char="•"/>
              <a:tabLst>
                <a:tab algn="l" pos="349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uality Cir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9200" indent="-349200">
              <a:lnSpc>
                <a:spcPct val="100000"/>
              </a:lnSpc>
              <a:spcBef>
                <a:spcPts val="1624"/>
              </a:spcBef>
              <a:buClr>
                <a:srgbClr val="808080"/>
              </a:buClr>
              <a:buFont typeface="Tahoma"/>
              <a:buChar char="•"/>
              <a:tabLst>
                <a:tab algn="l" pos="349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creased work author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9200" indent="-349200">
              <a:lnSpc>
                <a:spcPct val="100000"/>
              </a:lnSpc>
              <a:spcBef>
                <a:spcPts val="1624"/>
              </a:spcBef>
              <a:buClr>
                <a:srgbClr val="808080"/>
              </a:buClr>
              <a:buFont typeface="Tahoma"/>
              <a:buChar char="•"/>
              <a:tabLst>
                <a:tab algn="l" pos="349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tinuous improve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9200" indent="-349200">
              <a:lnSpc>
                <a:spcPct val="100000"/>
              </a:lnSpc>
              <a:spcBef>
                <a:spcPts val="1624"/>
              </a:spcBef>
              <a:buClr>
                <a:srgbClr val="808080"/>
              </a:buClr>
              <a:buFont typeface="Tahoma"/>
              <a:buChar char="•"/>
              <a:tabLst>
                <a:tab algn="l" pos="349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ousekeep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92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349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ahoma"/>
              </a:rPr>
              <a:t>Objectives</a:t>
            </a: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37124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37400" indent="0">
              <a:lnSpc>
                <a:spcPct val="100000"/>
              </a:lnSpc>
              <a:spcBef>
                <a:spcPts val="1624"/>
              </a:spcBef>
              <a:buNone/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st the two classifications of inventory control system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37400" indent="0">
              <a:lnSpc>
                <a:spcPct val="100000"/>
              </a:lnSpc>
              <a:spcBef>
                <a:spcPts val="1624"/>
              </a:spcBef>
              <a:buNone/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te the advantages and disadvantages of a “push” syst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37400" indent="0">
              <a:lnSpc>
                <a:spcPct val="100000"/>
              </a:lnSpc>
              <a:spcBef>
                <a:spcPts val="1624"/>
              </a:spcBef>
              <a:buNone/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te the advantages and disadvantages of a “pull” syst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37400" indent="0">
              <a:lnSpc>
                <a:spcPct val="100000"/>
              </a:lnSpc>
              <a:spcBef>
                <a:spcPts val="1624"/>
              </a:spcBef>
              <a:buNone/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lain the purpose of MR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37400" indent="0">
              <a:lnSpc>
                <a:spcPct val="100000"/>
              </a:lnSpc>
              <a:spcBef>
                <a:spcPts val="1624"/>
              </a:spcBef>
              <a:buNone/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5.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st the three key inputs to MR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37400" indent="0">
              <a:lnSpc>
                <a:spcPct val="100000"/>
              </a:lnSpc>
              <a:spcBef>
                <a:spcPts val="1624"/>
              </a:spcBef>
              <a:buNone/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.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te whether MRP is a “push” or a “pull” syst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37400" indent="0">
              <a:lnSpc>
                <a:spcPct val="100000"/>
              </a:lnSpc>
              <a:spcBef>
                <a:spcPts val="1624"/>
              </a:spcBef>
              <a:buNone/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7.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lain the JIT philosoph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37400" indent="0">
              <a:lnSpc>
                <a:spcPct val="100000"/>
              </a:lnSpc>
              <a:spcBef>
                <a:spcPts val="1624"/>
              </a:spcBef>
              <a:buNone/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.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st the seven goals of J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37400" indent="0">
              <a:lnSpc>
                <a:spcPct val="100000"/>
              </a:lnSpc>
              <a:spcBef>
                <a:spcPts val="1624"/>
              </a:spcBef>
              <a:buNone/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9.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te which ABC classification requires the most, less, or the least management attenti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ahoma"/>
              </a:rPr>
              <a:t>Objectives</a:t>
            </a: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371600" y="13712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0">
              <a:lnSpc>
                <a:spcPct val="100000"/>
              </a:lnSpc>
              <a:spcBef>
                <a:spcPts val="1624"/>
              </a:spcBef>
              <a:buNone/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.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st the two basic options businesses have when reordering raw mater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71680" indent="0">
              <a:lnSpc>
                <a:spcPct val="100000"/>
              </a:lnSpc>
              <a:spcBef>
                <a:spcPts val="1624"/>
              </a:spcBef>
              <a:buNone/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1.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lain how vendor-managed inventory can benefit both the supplier and the custome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71680" indent="0">
              <a:lnSpc>
                <a:spcPct val="100000"/>
              </a:lnSpc>
              <a:spcBef>
                <a:spcPts val="1624"/>
              </a:spcBef>
              <a:buNone/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2.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lain the Kanban proces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71680" indent="0">
              <a:lnSpc>
                <a:spcPct val="100000"/>
              </a:lnSpc>
              <a:spcBef>
                <a:spcPts val="1624"/>
              </a:spcBef>
              <a:buNone/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3.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te the two key factors involved with the Kanban process.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716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29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ahoma"/>
              </a:rPr>
              <a:t>Push Distribution System</a:t>
            </a: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pic>
        <p:nvPicPr>
          <p:cNvPr id="131" name="Picture 9" descr=""/>
          <p:cNvPicPr/>
          <p:nvPr/>
        </p:nvPicPr>
        <p:blipFill>
          <a:blip r:embed="rId1"/>
          <a:stretch/>
        </p:blipFill>
        <p:spPr>
          <a:xfrm>
            <a:off x="3200400" y="1523880"/>
            <a:ext cx="3622680" cy="46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29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ahoma"/>
              </a:rPr>
              <a:t>Push System in Manufacturing</a:t>
            </a: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pic>
        <p:nvPicPr>
          <p:cNvPr id="133" name="Picture 7" descr=""/>
          <p:cNvPicPr/>
          <p:nvPr/>
        </p:nvPicPr>
        <p:blipFill>
          <a:blip r:embed="rId1"/>
          <a:stretch/>
        </p:blipFill>
        <p:spPr>
          <a:xfrm>
            <a:off x="3164040" y="1444680"/>
            <a:ext cx="3693960" cy="48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29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ahoma"/>
              </a:rPr>
              <a:t>Pull Distribution System</a:t>
            </a: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pic>
        <p:nvPicPr>
          <p:cNvPr id="135" name="Picture 10" descr=""/>
          <p:cNvPicPr/>
          <p:nvPr/>
        </p:nvPicPr>
        <p:blipFill>
          <a:blip r:embed="rId1"/>
          <a:stretch/>
        </p:blipFill>
        <p:spPr>
          <a:xfrm>
            <a:off x="3198960" y="1600200"/>
            <a:ext cx="3811320" cy="44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ahoma"/>
              </a:rPr>
              <a:t>Pull System in Manufacturing</a:t>
            </a: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pic>
        <p:nvPicPr>
          <p:cNvPr id="137" name="Picture 2051" descr=""/>
          <p:cNvPicPr/>
          <p:nvPr/>
        </p:nvPicPr>
        <p:blipFill>
          <a:blip r:embed="rId1"/>
          <a:stretch/>
        </p:blipFill>
        <p:spPr>
          <a:xfrm>
            <a:off x="3200400" y="1581120"/>
            <a:ext cx="372888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29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ahoma"/>
              </a:rPr>
              <a:t>Material Requirement </a:t>
            </a:r>
            <a:br>
              <a:rPr sz="3600"/>
            </a:br>
            <a:r>
              <a:rPr b="0" lang="en-US" sz="3600" spc="-1" strike="noStrike">
                <a:solidFill>
                  <a:srgbClr val="003366"/>
                </a:solidFill>
                <a:latin typeface="Tahoma"/>
              </a:rPr>
              <a:t>Planning Inputs</a:t>
            </a: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pic>
        <p:nvPicPr>
          <p:cNvPr id="139" name="Picture 11" descr=""/>
          <p:cNvPicPr/>
          <p:nvPr/>
        </p:nvPicPr>
        <p:blipFill>
          <a:blip r:embed="rId1"/>
          <a:stretch/>
        </p:blipFill>
        <p:spPr>
          <a:xfrm>
            <a:off x="2743200" y="1523880"/>
            <a:ext cx="4876920" cy="445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ahoma"/>
              </a:rPr>
              <a:t>Goals of Just-in-Time Philosophy</a:t>
            </a: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37124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iminate all unnecessary lead tim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60440" indent="0">
              <a:lnSpc>
                <a:spcPct val="10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duce setup cost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60440" indent="0">
              <a:lnSpc>
                <a:spcPct val="10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ptimize material flow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60440" indent="0">
              <a:lnSpc>
                <a:spcPct val="10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sure high quality from supplie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60440" indent="0">
              <a:lnSpc>
                <a:spcPct val="10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5.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sure dependable just-in-time deliveries from supplie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60440" indent="0">
              <a:lnSpc>
                <a:spcPct val="10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.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 a strong Quality Control progra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60440" indent="0">
              <a:lnSpc>
                <a:spcPct val="10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7.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nimize safety stocks.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8T20:20:14Z</dcterms:created>
  <dc:creator>hherrington</dc:creator>
  <dc:description/>
  <dc:language>en-US</dc:language>
  <cp:lastModifiedBy>jelliott</cp:lastModifiedBy>
  <dcterms:modified xsi:type="dcterms:W3CDTF">2009-05-11T14:44:50Z</dcterms:modified>
  <cp:revision>90</cp:revision>
  <dc:subject/>
  <dc:title>Introduction to the Certified Manufacturing Specialist Program</dc:title>
</cp:coreProperties>
</file>